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193-A8E0-4B8C-A4AD-741F391E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C3B-BE5D-415A-853F-D1DC7FD1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5FD-F54B-4669-9F38-610FC3CD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AC3-9557-4547-9B63-3DC3BDEF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CED-027F-4439-8B75-565D814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A26-12DB-48EC-B1DC-A90DA46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A70-E912-476B-84F4-6EC8DFF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808-0F99-47C1-8768-7A0D974D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1E5-D602-4C03-AA1B-44516D56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AA6-854F-41AC-8D63-6A5FE0C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E00-5BA7-4B4E-8B50-4103514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CF4-245D-49F8-BCFD-AC716F2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668-AD41-4338-A555-422A35D0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bii.gov/images/uploaded/153507_1153350433598_m_Baltic_sea_pollution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reenpeace.org/raw/image_full/russia/en/photosvideos/photos/air-pollution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static.guim.co.uk/sys-images/Guardian/Pix/pictures/2009/11/6/1257508360876/Russian-power-station-001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ci.santa-rosa.ca.us/SiteCollectionImages/PWStorm_waterpollution.jpg&amp;imgrefurl=http://ci.santa-rosa.ca.us/departments/utilities/stormwatercreeks/swpermit&amp;usg=__IJoMYzLDHIljhMWaBGsOgRwU0OU=&amp;h=289&amp;w=269&amp;sz=148&amp;hl=en&amp;start=57&amp;zoom=1&amp;itbs=1&amp;tbnid=JLmkSdUcYMM0LM:&amp;tbnh=115&amp;tbnw=107&amp;prev=/images%3Fq%3DRussian%2Bpollution%26start%3D40%26hl%3Den%26sa%3DN%26gbv%3D2%26ndsp%3D20%26tbs%3Disch:1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Barker and Dejvid Sh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places with severe 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common oil spills during the communist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don’t clean up the sp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waste was dumped into the rivers and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icides and other heavy metals poisoned soil in a lot of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pollut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places have acid rain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power left dangerous by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1981080"/>
            <a:ext cx="3476520" cy="262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819520"/>
            <a:ext cx="2971800" cy="165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304920"/>
            <a:ext cx="3733920" cy="155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981080" y="4876920"/>
            <a:ext cx="44960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r Peoples and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suffer from lu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Soil can make poison plants that animals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3:07Z</dcterms:created>
  <dc:creator> </dc:creator>
  <dc:description/>
  <dc:language>en-US</dc:language>
  <cp:lastModifiedBy> </cp:lastModifiedBy>
  <dcterms:modified xsi:type="dcterms:W3CDTF">2010-12-14T15:10:33Z</dcterms:modified>
  <cp:revision>2</cp:revision>
  <dc:subject/>
  <dc:title>Russia’s Environment</dc:title>
</cp:coreProperties>
</file>